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FC4D-DC05-4A03-8056-E11E9657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8D59-8E36-4580-A64C-0C894E25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7CBB-8F4E-4855-86BE-658B4B1C3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D9BA-C7E2-4888-A1C2-83FC2B268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7920-26E5-4173-A6FA-4F93D94E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4E7D-CA43-4DAF-A0CD-568E3D21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B6AC-4A41-46A0-88D5-1CDDE2CB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89BE-82D4-47DE-A024-8F58C96B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6301-0F69-41A4-B85A-3EA2B8F5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8B4E-F2B1-4EAF-90EA-16D97E09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6BB5-FA13-4CE8-9FD5-D2871B97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8DDA-5E9C-4A50-BD67-99E6C461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BA57-801A-4A11-B288-587C805B15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17375e"/>
                </a:solidFill>
                <a:uFillTx/>
                <a:latin typeface="Calibri"/>
              </a:rPr>
              <a:t>Имя прилагатель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РАКТ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Задание 1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Дополните своими примерами прилагательных заданные ряды с определенным лексическим значение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арактер поверхности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ровный, бугристый..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мер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громный..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значение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толочный..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териа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кожаный..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озраст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рый..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полненность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устой..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ст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крымский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6840" y="428400"/>
            <a:ext cx="8472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Задание 2</a:t>
            </a:r>
            <a:r>
              <a:rPr b="1" i="1" lang="ru-RU" sz="2500" spc="-1" strike="noStrike">
                <a:solidFill>
                  <a:srgbClr val="17375e"/>
                </a:solidFill>
                <a:latin typeface="Calibri"/>
              </a:rPr>
              <a:t>. </a:t>
            </a:r>
            <a:r>
              <a:rPr b="1" lang="ru-RU" sz="2500" spc="-1" strike="noStrike">
                <a:solidFill>
                  <a:srgbClr val="17375e"/>
                </a:solidFill>
                <a:latin typeface="Calibri"/>
              </a:rPr>
              <a:t>Из данного текста «выпали» прилагательные: </a:t>
            </a:r>
            <a:r>
              <a:rPr b="1" i="1" lang="ru-RU" sz="2500" spc="-1" strike="noStrike">
                <a:solidFill>
                  <a:srgbClr val="17375e"/>
                </a:solidFill>
                <a:latin typeface="Calibri"/>
              </a:rPr>
              <a:t>желтый, глубокий, студеный, горький, лесной, тонкий, черный, темный</a:t>
            </a:r>
            <a:r>
              <a:rPr b="1" lang="ru-RU" sz="2500" spc="-1" strike="noStrike">
                <a:solidFill>
                  <a:srgbClr val="17375e"/>
                </a:solidFill>
                <a:latin typeface="Calibri"/>
              </a:rPr>
              <a:t>. Верните «беглецов» на место, и у вас получится описание картины Виктора Михайловича Васнецова «Аленушка» (рассмотрите ее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В _______ глуши спряталось _______ озеро. Стеной стоят вокруг _______ ели, _______ осины роняют в воду _______ листья. На камне над _______ водой горюет сирота Аленушка. Не(с)кем Аленушке слова сказать, (н_)кому горе выплакать. Один _______ омут слышит ее _______ жалобы. Да лес вокруг грустит вместе с ней – деревья сохнут, трава блекнет, цветы вяну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(По В.Порудоминскому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00"/>
                </a:solidFill>
                <a:latin typeface="Calibri"/>
              </a:rPr>
              <a:t>• </a:t>
            </a:r>
            <a:r>
              <a:rPr b="0" i="1" lang="ru-RU" sz="2600" spc="-1" strike="noStrike">
                <a:solidFill>
                  <a:srgbClr val="ff0000"/>
                </a:solidFill>
                <a:latin typeface="Calibri"/>
              </a:rPr>
              <a:t>Какие лексические значения передают вставленные вами прилагательные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00"/>
                </a:solidFill>
                <a:latin typeface="Calibri"/>
              </a:rPr>
              <a:t>• </a:t>
            </a:r>
            <a:r>
              <a:rPr b="0" i="1" lang="ru-RU" sz="2600" spc="-1" strike="noStrike">
                <a:solidFill>
                  <a:srgbClr val="ff0000"/>
                </a:solidFill>
                <a:latin typeface="Calibri"/>
              </a:rPr>
              <a:t>Зачем прилагательные «прилагаются» к существительному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Задание 3.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ff0000"/>
                </a:solidFill>
                <a:latin typeface="Calibri"/>
              </a:rPr>
              <a:t>Разбейте данные прилагательные (которые обычно используют для описания качеств человека) на три группы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Calibri"/>
              </a:rPr>
              <a:t>а) качества, которые вызывают ваше уважение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Calibri"/>
              </a:rPr>
              <a:t>б) качества, которые вам неприятны в людях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Calibri"/>
              </a:rPr>
              <a:t>в) качества, которые вам безразличны в окружающих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Агрессивный, глупый, инициативный, несдержанный, болтливый, веселый, приветливый, упрямый, конфликтный, способный, хитрый, активный, общительный, честный, грубый, пассивный, послушный, трудолюбивый, наглый, скрытный, искренний, своевольный, аккуратный, беззащитный, ответственный, замкнутый, ленивый, равнодушный, скромный, неряшливый, дерзкий, независимый, злой, внимательный, невоспитанный, исполнительный, отзывчивый, доверчивы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Задание 4.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осстановите грамматические формы прилагательных по приведенным фрагментам словофор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.п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....няя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....лое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.... жий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....х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Задание 18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гласуйте прилагательные с существительными в данных словосочетаниях. (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Подсказка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тобы верно решить возникшую орфографическую задачу, задавайте к прилагательным вопрос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какую?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днажды в студеную зимн_ пору...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(Н.Некрасов)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Люблю весенн_ грозу. Простудился в осенн_ непогоду. Вспомнил прежн_ учительницу. Отправился в дальн_ дорогу. Погладил лохмат_ собаку. Провел ломан_ линию. Подарил искренн_ улыбку. Нашел средн_ величину. Услышал посторонн_ речь. Сделал утренн_ зарядк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Задание 19.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пишите данные словосочетания в творительном падеже множественного числ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стыдные поступки, мудреные речи, безнадежные ситуации, отеческие заботы, ответственные поручения, мохнатые шмели, таинственные шорохи, опознавательные знаки, драгоценные камни, прекрасные очертания, лопоухие щенк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08:41:45Z</dcterms:created>
  <dc:creator>Инна</dc:creator>
  <dc:description/>
  <dc:language>en-US</dc:language>
  <cp:lastModifiedBy>BLACKGIRL</cp:lastModifiedBy>
  <dcterms:modified xsi:type="dcterms:W3CDTF">2010-01-29T23:10:54Z</dcterms:modified>
  <cp:revision>1</cp:revision>
  <dc:subject/>
  <dc:title>Имя прилагательное</dc:title>
</cp:coreProperties>
</file>